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690-ADE8-4351-9923-744FA653B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alculator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difference between equal and approx (including no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x, different y not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Builder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erage rate of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(6) – f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 –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6 –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** In calculating f(x + h), simply replace each occurrence of x in the formula for f by (x + h).  The parenthesis helps to avoid sign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**Do not cancel the h from the denominator until you have factored h from the nume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223-4C61-4141-87A0-55B0306D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279-72E2-47FF-B108-EE3D34D3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789-4096-4B91-9E4E-BD91B04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C41-87CC-47CD-A982-615F32EC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9418-9CB8-4B7D-9AD9-F39424C5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A1E7-C841-4B71-8A33-AC24E10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3279-21D8-4F10-A465-DF9C120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877-DDB4-4BDF-9F5E-C64544C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A9C7-CF17-4685-A98C-A05E24B5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4EB5-3F79-445C-828A-F05FF42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FCCA-C24B-488C-B36B-2EE4154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FB0-1873-459B-9387-78C3904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B369-69B1-4692-8B1E-8E0488A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A009-B386-4FA2-9CE9-09CBB58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5EDA-82EA-475B-A8AE-E6C72E6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5CD-2F56-4290-AD54-E21C6BAA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99D-F93A-4406-B972-A3C11FD9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D1F-4645-4807-B051-D8E4C15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70C-5B78-44FC-803C-A895CC2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9BA-5719-4DA6-8223-EC835C8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EB4-0512-4565-BD93-5F1968B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40C-41A6-4F68-AF97-FBCC8DB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EC0-1AC7-48B8-84A8-85653CD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1EE-82B9-48CD-A113-CB9CB43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E35-266C-4707-A29D-B916C85BAB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3BA5-BBC3-4272-A521-95D2083572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pter 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ientific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752480"/>
          <a:ext cx="5562720" cy="3200400"/>
        </p:xfrm>
        <a:graphic>
          <a:graphicData uri="http://schemas.openxmlformats.org/drawingml/2006/table">
            <a:tbl>
              <a:tblPr/>
              <a:tblGrid>
                <a:gridCol w="2666880"/>
                <a:gridCol w="2895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Fo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No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,000,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4,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x 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x 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uting in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ientific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each ex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.5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2.7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.7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3.1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6.3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.1 x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63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uting with a calcula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532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calculator to evaluate each expression.  Round to the nearest thousan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  6! –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590920"/>
          <a:ext cx="91440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9144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219320" y="5105520"/>
          <a:ext cx="761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105520"/>
                    <a:ext cx="761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219320" y="3505320"/>
          <a:ext cx="126972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505320"/>
                    <a:ext cx="1269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00240" y="4267080"/>
          <a:ext cx="85716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0240" y="4267080"/>
                    <a:ext cx="8571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-Variabl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um/Minimu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o-Variabl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ed 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, Data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the Domain and the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, 3), (-3, 7), (8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5 #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6 #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14600" y="1676520"/>
          <a:ext cx="35305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35305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666880" y="2971800"/>
          <a:ext cx="21337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971800"/>
                    <a:ext cx="2133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6 #24, 30,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54, 56, 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6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the Calculator to Make Scatterplot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 the data into List 1 and Lis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= (stat pl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rn Plot on, make sure the scatterplot is 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m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7 #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28 #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Number S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3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Their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 (independent varia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(dependent varia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lation is a function if each input value has exactly one output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ing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if the relation is a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, 2), (4, 2), (5,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, 2), (-1, 3), (1,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tical Line T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vertical line test to determine whether each graph represents a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2971800"/>
            <a:ext cx="609480" cy="1219320"/>
          </a:xfrm>
          <a:custGeom>
            <a:avLst/>
            <a:gdLst/>
            <a:ahLst/>
            <a:rect l="l" t="t" r="r" b="b"/>
            <a:pathLst>
              <a:path w="240" h="728">
                <a:moveTo>
                  <a:pt x="0" y="48"/>
                </a:moveTo>
                <a:cubicBezTo>
                  <a:pt x="28" y="388"/>
                  <a:pt x="56" y="728"/>
                  <a:pt x="96" y="720"/>
                </a:cubicBezTo>
                <a:cubicBezTo>
                  <a:pt x="136" y="712"/>
                  <a:pt x="188" y="356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2760" y="3200400"/>
            <a:ext cx="1333440" cy="787320"/>
          </a:xfrm>
          <a:custGeom>
            <a:avLst/>
            <a:gdLst/>
            <a:ahLst/>
            <a:rect l="l" t="t" r="r" b="b"/>
            <a:pathLst>
              <a:path w="840" h="496">
                <a:moveTo>
                  <a:pt x="840" y="0"/>
                </a:moveTo>
                <a:cubicBezTo>
                  <a:pt x="540" y="12"/>
                  <a:pt x="240" y="24"/>
                  <a:pt x="120" y="96"/>
                </a:cubicBezTo>
                <a:cubicBezTo>
                  <a:pt x="0" y="168"/>
                  <a:pt x="0" y="368"/>
                  <a:pt x="120" y="432"/>
                </a:cubicBezTo>
                <a:cubicBezTo>
                  <a:pt x="240" y="496"/>
                  <a:pt x="540" y="488"/>
                  <a:pt x="84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30481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895480"/>
            <a:ext cx="685800" cy="152424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384" y="0"/>
                </a:moveTo>
                <a:lnTo>
                  <a:pt x="0" y="240"/>
                </a:lnTo>
                <a:lnTo>
                  <a:pt x="240" y="624"/>
                </a:lnTo>
                <a:lnTo>
                  <a:pt x="48" y="912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ing the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nominator cannot equal z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dicand cannot be neg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2 #26, 28, 30, 32,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3 #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3 # 54, 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4 #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ion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44 #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Functions and Their Rate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tant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stant function is represented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b, where b is a fixed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graphed, these are horizontal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ear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near function is represented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mx + b, where b is a fixed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is the sl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Functions have a constant rate of change (the slop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rate of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hange in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hange i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∆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∆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R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pe- give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or poi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=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 positive slope goes up as you read the graph from left to right. (A negative slope goes down as you read the graph from left to righ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s the absolute value of the slope gets larger, the steepness of the incline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14600" y="2344680"/>
          <a:ext cx="12193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44680"/>
                    <a:ext cx="121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90920" y="1752480"/>
          <a:ext cx="25905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752480"/>
                    <a:ext cx="2590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slope between each pair of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7, 2) and (4, -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8, 2) and (-8, 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linear Fun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rate of change is not constant, it is not a linea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if the data are linear or nonlin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59 #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59 #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133720"/>
            <a:ext cx="3504960" cy="342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514600"/>
            <a:ext cx="2590560" cy="2514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743200"/>
            <a:ext cx="16002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5640" y="1752480"/>
            <a:ext cx="723600" cy="4343400"/>
          </a:xfrm>
          <a:custGeom>
            <a:avLst/>
            <a:gdLst/>
            <a:ahLst/>
            <a:rect l="l" t="t" r="r" b="b"/>
            <a:pathLst>
              <a:path w="456" h="2736">
                <a:moveTo>
                  <a:pt x="280" y="0"/>
                </a:moveTo>
                <a:cubicBezTo>
                  <a:pt x="164" y="144"/>
                  <a:pt x="48" y="288"/>
                  <a:pt x="40" y="432"/>
                </a:cubicBezTo>
                <a:cubicBezTo>
                  <a:pt x="32" y="576"/>
                  <a:pt x="168" y="704"/>
                  <a:pt x="232" y="864"/>
                </a:cubicBezTo>
                <a:cubicBezTo>
                  <a:pt x="296" y="1024"/>
                  <a:pt x="456" y="1216"/>
                  <a:pt x="424" y="1392"/>
                </a:cubicBezTo>
                <a:cubicBezTo>
                  <a:pt x="392" y="1568"/>
                  <a:pt x="80" y="1784"/>
                  <a:pt x="40" y="1920"/>
                </a:cubicBezTo>
                <a:cubicBezTo>
                  <a:pt x="0" y="2056"/>
                  <a:pt x="120" y="2120"/>
                  <a:pt x="184" y="2208"/>
                </a:cubicBezTo>
                <a:cubicBezTo>
                  <a:pt x="248" y="2296"/>
                  <a:pt x="416" y="2360"/>
                  <a:pt x="424" y="2448"/>
                </a:cubicBezTo>
                <a:cubicBezTo>
                  <a:pt x="432" y="2536"/>
                  <a:pt x="332" y="2636"/>
                  <a:pt x="232" y="27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743200"/>
            <a:ext cx="609840" cy="1600200"/>
          </a:xfrm>
          <a:custGeom>
            <a:avLst/>
            <a:gdLst/>
            <a:ahLst/>
            <a:rect l="l" t="t" r="r" b="b"/>
            <a:pathLst>
              <a:path w="336" h="1000">
                <a:moveTo>
                  <a:pt x="288" y="40"/>
                </a:moveTo>
                <a:cubicBezTo>
                  <a:pt x="288" y="20"/>
                  <a:pt x="288" y="0"/>
                  <a:pt x="288" y="88"/>
                </a:cubicBezTo>
                <a:cubicBezTo>
                  <a:pt x="288" y="176"/>
                  <a:pt x="336" y="416"/>
                  <a:pt x="288" y="568"/>
                </a:cubicBezTo>
                <a:cubicBezTo>
                  <a:pt x="240" y="720"/>
                  <a:pt x="48" y="928"/>
                  <a:pt x="0" y="1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172200" y="342864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es of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ecant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traight line joining two points on a grap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lope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ertical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Horizontal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s the points get closer and closer to one another it becomes a better estimate of th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57800" y="5105520"/>
            <a:ext cx="2590920" cy="1238040"/>
            <a:chOff x="5257800" y="5105520"/>
            <a:chExt cx="2590920" cy="1238040"/>
          </a:xfrm>
        </p:grpSpPr>
        <p:sp>
          <p:nvSpPr>
            <p:cNvPr id="288" name=""/>
            <p:cNvSpPr/>
            <p:nvPr/>
          </p:nvSpPr>
          <p:spPr>
            <a:xfrm>
              <a:off x="5775840" y="5105520"/>
              <a:ext cx="1813680" cy="1238040"/>
            </a:xfrm>
            <a:custGeom>
              <a:avLst/>
              <a:gdLst/>
              <a:ahLst/>
              <a:rect l="l" t="t" r="r" b="b"/>
              <a:pathLst>
                <a:path w="2520" h="1470">
                  <a:moveTo>
                    <a:pt x="0" y="0"/>
                  </a:moveTo>
                  <a:cubicBezTo>
                    <a:pt x="150" y="705"/>
                    <a:pt x="300" y="1410"/>
                    <a:pt x="720" y="1440"/>
                  </a:cubicBezTo>
                  <a:cubicBezTo>
                    <a:pt x="1140" y="1470"/>
                    <a:pt x="1830" y="825"/>
                    <a:pt x="25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257800" y="5257080"/>
              <a:ext cx="2590920" cy="90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tes of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angent l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slope of the tangent line is the instantaneous rate of change (derivative) of th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05520" y="4648320"/>
            <a:ext cx="2590560" cy="1595160"/>
            <a:chOff x="5105520" y="4648320"/>
            <a:chExt cx="2590560" cy="1595160"/>
          </a:xfrm>
        </p:grpSpPr>
        <p:sp>
          <p:nvSpPr>
            <p:cNvPr id="293" name=""/>
            <p:cNvSpPr/>
            <p:nvPr/>
          </p:nvSpPr>
          <p:spPr>
            <a:xfrm>
              <a:off x="5546880" y="4648320"/>
              <a:ext cx="1814400" cy="1238040"/>
            </a:xfrm>
            <a:custGeom>
              <a:avLst/>
              <a:gdLst/>
              <a:ahLst/>
              <a:rect l="l" t="t" r="r" b="b"/>
              <a:pathLst>
                <a:path w="2520" h="1470">
                  <a:moveTo>
                    <a:pt x="0" y="0"/>
                  </a:moveTo>
                  <a:cubicBezTo>
                    <a:pt x="150" y="705"/>
                    <a:pt x="300" y="1410"/>
                    <a:pt x="720" y="1440"/>
                  </a:cubicBezTo>
                  <a:cubicBezTo>
                    <a:pt x="1140" y="1470"/>
                    <a:pt x="1830" y="825"/>
                    <a:pt x="2520" y="1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05520" y="5334120"/>
              <a:ext cx="2590560" cy="90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宋体"/>
              </a:rPr>
              <a:t>Calculating the average rate of change using formu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verage rate of change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hange in function 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hange in x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(b) – f(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b –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same formula we used for finding the slo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429000" y="4930920"/>
          <a:ext cx="14731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930920"/>
                    <a:ext cx="14731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et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 from 4 to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om x to x + 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, from x to x + h of f(x) 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lculate the average rate of change from x to x + h, f(x) = 3x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assify Real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 each number as one or more of the following: natural, whole, integer, rational, or irrat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4952880"/>
          <a:ext cx="6858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6858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verage and Percent 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is also known as th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Change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w value – original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2 #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13 #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21:28:02Z</dcterms:created>
  <dc:creator>Preferred Customer</dc:creator>
  <dc:description/>
  <dc:language>en-US</dc:language>
  <cp:lastModifiedBy>Preferred Customer</cp:lastModifiedBy>
  <dcterms:modified xsi:type="dcterms:W3CDTF">2007-08-26T05:03:29Z</dcterms:modified>
  <cp:revision>6</cp:revision>
  <dc:subject/>
  <dc:title>Chapter 1</dc:title>
</cp:coreProperties>
</file>